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B75-31A9-43BA-9D99-D7240866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686-F064-49BD-91F4-8EAE8D22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5C6-8376-4670-A63D-D06D58AC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09B-B62C-40F9-A1F2-ACE55F2A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4F06-9F3F-4161-87E1-35DAAF7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164-2C66-4E3F-9DD1-2664375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D8F-03FE-4326-B475-CE20FE84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70F3-E65D-4E6E-8F9D-F141456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E0E3-239E-41FE-8DCA-E16682E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ED1-5030-4231-A86C-222F6E5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17B4-1A30-4574-ADBE-222A48A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24A-FC37-47BE-B88E-846BD93E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ADC-1F7C-4508-89B6-FDB8A32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48F1-AF23-4F64-BFF5-C40798B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44D-CDE5-42D9-8DDC-F8EA2100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77A4-77CE-4BC2-BF9B-98F62572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32B-D626-4CAE-86D9-C1684921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5FF-2405-4DE3-BA2F-7EEFA86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550-A5F7-4821-8294-CAAE2046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756-4803-463E-AB1F-A3A4462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650-C585-42BE-96E9-546BD75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65F-0BA5-41D8-A46F-06F889B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CCB-44BD-4C30-BEDC-BDCAE90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60E-A8DA-4098-B38F-2E19AD7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826-4294-4058-BA2C-C53A489C7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5B0-F08F-42CD-BEF9-6F9CF765A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5BA-B811-495C-A82D-A63FE1CBD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14400" y="3124080"/>
            <a:ext cx="67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ISTEMUL  EDUCATIONAL  DIN  RO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12760" y="1620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6652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355760" y="237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447920" y="533520"/>
            <a:ext cx="6340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OM</a:t>
            </a:r>
            <a:r>
              <a:rPr b="1" lang="ro-RO" sz="2400" spc="-1" strike="noStrike">
                <a:solidFill>
                  <a:srgbClr val="ffffff"/>
                </a:solidFill>
                <a:latin typeface="Arial Narrow"/>
              </a:rPr>
              <a:t>Â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INISTERUL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EDUCAŢIE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CERCETĂRI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SI   TINERET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680240" y="619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FB6-4C53-4BF6-AB00-0CC095549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POSTUNIVERSIT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ISCED 6) oferă următoarele programe de studi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aprofundate de specializar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durata de 2-3 semest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aprofunda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masterat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durata de 2-4 semestre, finalizat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mas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academice post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u durata de 2-4 semest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academice postuniversita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doctora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o durată de 4 ani, finalizat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doct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post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e specializare cu durata stabilită de către senatele universita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postuniversitare de specializar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cursuri postuniversitare de perfecţion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u durata stabilită de către senatele universita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certificate de absolvi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EDE-BA4C-4013-A772-B9D01A4CB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905120" y="457200"/>
            <a:ext cx="12952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ET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905120" y="2362320"/>
            <a:ext cx="1295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HNOLO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981080" y="4876920"/>
            <a:ext cx="1219320" cy="609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CATIONA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505320" y="1522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Uma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505320" y="7621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505320" y="17524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Tehn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505320" y="23623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505320" y="2971800"/>
            <a:ext cx="327636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urse naturale si protectia mediul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876920" y="152280"/>
            <a:ext cx="41148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i :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Filologi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sociale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876920" y="762120"/>
            <a:ext cx="41148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 :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atematică–informatic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ale naturii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3505320" y="38098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litar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505320" y="44197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olog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3505320" y="502920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tist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3505320" y="56386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dagog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3505320" y="62485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ortiv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0" y="3124080"/>
            <a:ext cx="1752480" cy="11430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ATAMANTULU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C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4800600" y="380988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 :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social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atematică–informatic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4800600" y="441972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: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teologic ortodox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patrimoniu cultural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ul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4800600" y="502920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i: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hitectur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e ambientale şi design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plastice şi decorativ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uzic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Coregrafi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a actorului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4800600" y="5638680"/>
            <a:ext cx="4191120" cy="609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: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Învăţător-educatoar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Bibliotecar-documentaris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Instructor-animato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Instructor pentru activităţi extraşcolar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Pedagog şcolar</a:t>
            </a:r>
            <a:r>
              <a:rPr b="0" lang="ro-RO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3200400" y="411444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 flipV="1">
            <a:off x="3200400" y="46479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2"/>
          <p:cNvSpPr/>
          <p:nvPr/>
        </p:nvSpPr>
        <p:spPr>
          <a:xfrm>
            <a:off x="3200400" y="5181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3"/>
          <p:cNvSpPr/>
          <p:nvPr/>
        </p:nvSpPr>
        <p:spPr>
          <a:xfrm>
            <a:off x="3200400" y="518148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4"/>
          <p:cNvSpPr/>
          <p:nvPr/>
        </p:nvSpPr>
        <p:spPr>
          <a:xfrm>
            <a:off x="3200400" y="5181480"/>
            <a:ext cx="3049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35"/>
          <p:cNvSpPr/>
          <p:nvPr/>
        </p:nvSpPr>
        <p:spPr>
          <a:xfrm>
            <a:off x="3200400" y="2590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6"/>
          <p:cNvSpPr/>
          <p:nvPr/>
        </p:nvSpPr>
        <p:spPr>
          <a:xfrm flipV="1">
            <a:off x="3200400" y="1981080"/>
            <a:ext cx="304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3200400" y="259092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38"/>
          <p:cNvSpPr/>
          <p:nvPr/>
        </p:nvSpPr>
        <p:spPr>
          <a:xfrm flipV="1">
            <a:off x="3200400" y="380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39"/>
          <p:cNvSpPr/>
          <p:nvPr/>
        </p:nvSpPr>
        <p:spPr>
          <a:xfrm>
            <a:off x="3200400" y="685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40"/>
          <p:cNvSpPr/>
          <p:nvPr/>
        </p:nvSpPr>
        <p:spPr>
          <a:xfrm>
            <a:off x="4648320" y="380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4648320" y="990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46483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46483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4648320" y="5943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1752480" y="838080"/>
            <a:ext cx="15264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752480" y="2895120"/>
            <a:ext cx="228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1752480" y="3657600"/>
            <a:ext cx="2286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8190-2959-4FC0-B162-C439CE3F4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IECTIVELE  REFORMEI  SISTEM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990720" y="1676520"/>
            <a:ext cx="5972040" cy="2206440"/>
            <a:chOff x="990720" y="1676520"/>
            <a:chExt cx="5972040" cy="2206440"/>
          </a:xfrm>
        </p:grpSpPr>
        <p:sp>
          <p:nvSpPr>
            <p:cNvPr id="256" name="AutoShape 4"/>
            <p:cNvSpPr/>
            <p:nvPr/>
          </p:nvSpPr>
          <p:spPr>
            <a:xfrm>
              <a:off x="990720" y="1676520"/>
              <a:ext cx="597204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990720" y="1676520"/>
              <a:ext cx="279792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4164480" y="1676520"/>
              <a:ext cx="279828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7"/>
          <p:cNvGrpSpPr/>
          <p:nvPr/>
        </p:nvGrpSpPr>
        <p:grpSpPr>
          <a:xfrm>
            <a:off x="2819520" y="4191120"/>
            <a:ext cx="5972040" cy="2206440"/>
            <a:chOff x="2819520" y="4191120"/>
            <a:chExt cx="5972040" cy="2206440"/>
          </a:xfrm>
        </p:grpSpPr>
        <p:sp>
          <p:nvSpPr>
            <p:cNvPr id="260" name="AutoShape 8"/>
            <p:cNvSpPr/>
            <p:nvPr/>
          </p:nvSpPr>
          <p:spPr>
            <a:xfrm>
              <a:off x="2819520" y="4191120"/>
              <a:ext cx="597204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2819520" y="4191120"/>
              <a:ext cx="279792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5993280" y="4191120"/>
              <a:ext cx="279828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11"/>
          <p:cNvSpPr/>
          <p:nvPr/>
        </p:nvSpPr>
        <p:spPr>
          <a:xfrm>
            <a:off x="1295280" y="2057400"/>
            <a:ext cx="236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reşterea calităţii procesului educaţional, ca bază a realizării societăţii cunoaşterii în Româ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4343400" y="205740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igurarea pregătirii resurselor umane atât prin învăţământul formal obişnuit, cât şi prin filiere ale educaţiei permanen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048120" y="4419720"/>
            <a:ext cx="2209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ezvoltarea competenţelor necesare abordării învăţării pe tot parcursul vieţi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6248520" y="4343400"/>
            <a:ext cx="25812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ezvoltarea coeziunii sociale şi creşterea participării cetăţenilor la programele de dezvoltare în domeniul economic, social şi educaţion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175-6990-478A-8AF2-B74C80794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5400000">
            <a:off x="2479320" y="56808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 rot="5400000">
            <a:off x="2479680" y="3692520"/>
            <a:ext cx="67608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 rot="5400000">
            <a:off x="2479320" y="270180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 rot="5400000">
            <a:off x="2479680" y="1635120"/>
            <a:ext cx="67608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429000" y="15192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Asigurarea educaţiei de bază pentru toţi cetăţenii şi dezvoltarea competenţelor cheie</a:t>
            </a:r>
            <a:r>
              <a:rPr b="1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429000" y="1281240"/>
            <a:ext cx="52578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Realizarea echităţii în educaţie</a:t>
            </a:r>
            <a:r>
              <a:rPr b="0" lang="ro-RO" sz="16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3429000" y="335232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Fundamentarea învăţării pe baza nevoilor de dezvoltare personală şi profesională a tinerilor, din perspectiva dezvoltării durabile şi a asigurării coeziunii economice şi sociale</a:t>
            </a:r>
            <a:r>
              <a:rPr b="0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429000" y="559368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Deschiderea sistemului educaţional şi de formare profesională către societate în ansamblu, către mediul economic, social şi cultural</a:t>
            </a:r>
            <a:r>
              <a:rPr b="0" lang="en-US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 rot="5400000">
            <a:off x="2479320" y="475920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5400000">
            <a:off x="2479320" y="582588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3429000" y="446508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Asigurarea şi recunoaşterea complementarităţii dintre educaţia formală, non-formală şi informală, învăţarea permanentă devenind unul din pilonii de bază ai politicii educaţionale</a:t>
            </a:r>
            <a:r>
              <a:rPr b="0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3429000" y="2391840"/>
            <a:ext cx="5257800" cy="73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Creşterea calităţii procesului de predare/învăţare, precum şi a celorlalte servicii educaţionale</a:t>
            </a:r>
            <a:r>
              <a:rPr b="1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30"/>
          <p:cNvSpPr/>
          <p:nvPr/>
        </p:nvSpPr>
        <p:spPr>
          <a:xfrm>
            <a:off x="304920" y="2286000"/>
            <a:ext cx="2133360" cy="1828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A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4FD-76D6-4BA4-A1B4-4F14E33AC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32004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바탕"/>
              </a:rPr>
              <a:t>politici  curricul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6781680" y="990720"/>
            <a:ext cx="2138400" cy="1143000"/>
          </a:xfrm>
          <a:prstGeom prst="wedgeRoundRectCallout">
            <a:avLst>
              <a:gd name="adj1" fmla="val -75018"/>
              <a:gd name="adj2" fmla="val -35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sigurarea egalităţii şanselor şi a parcursului individual în învăţ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6629400" y="2590920"/>
            <a:ext cx="2138400" cy="1143000"/>
          </a:xfrm>
          <a:prstGeom prst="wedgeRoundRectCallout">
            <a:avLst>
              <a:gd name="adj1" fmla="val -74129"/>
              <a:gd name="adj2" fmla="val -130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electarea şi gruparea domeniilor cunoaşterii în arii curricul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5943600" y="4038480"/>
            <a:ext cx="2138400" cy="1143000"/>
          </a:xfrm>
          <a:prstGeom prst="wedgeRoundRectCallout">
            <a:avLst>
              <a:gd name="adj1" fmla="val -71902"/>
              <a:gd name="adj2" fmla="val -256805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scentraliz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380880" y="990720"/>
            <a:ext cx="2138400" cy="1143000"/>
          </a:xfrm>
          <a:prstGeom prst="wedgeRoundRectCallout">
            <a:avLst>
              <a:gd name="adj1" fmla="val 74648"/>
              <a:gd name="adj2" fmla="val -326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Asigurarea funcţionalităţii şi coerenţei parcursului şco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304920" y="2666880"/>
            <a:ext cx="2138400" cy="1143000"/>
          </a:xfrm>
          <a:prstGeom prst="wedgeRoundRectCallout">
            <a:avLst>
              <a:gd name="adj1" fmla="val 84449"/>
              <a:gd name="adj2" fmla="val -135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sigurarea relevanţei sociale a procesului de predare/învăţ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990720" y="4114800"/>
            <a:ext cx="2138400" cy="1143000"/>
          </a:xfrm>
          <a:prstGeom prst="wedgeRoundRectCallout">
            <a:avLst>
              <a:gd name="adj1" fmla="val 71083"/>
              <a:gd name="adj2" fmla="val -260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ompatibilizare cu standardele internaţiona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4800600" y="5410080"/>
            <a:ext cx="2138400" cy="1143000"/>
          </a:xfrm>
          <a:prstGeom prst="wedgeRoundRectCallout">
            <a:avLst>
              <a:gd name="adj1" fmla="val -40722"/>
              <a:gd name="adj2" fmla="val -378472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ficientiz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4"/>
          <p:cNvSpPr/>
          <p:nvPr/>
        </p:nvSpPr>
        <p:spPr>
          <a:xfrm>
            <a:off x="2514600" y="5410080"/>
            <a:ext cx="2138400" cy="1143000"/>
          </a:xfrm>
          <a:prstGeom prst="wedgeRoundRectCallout">
            <a:avLst>
              <a:gd name="adj1" fmla="val 35893"/>
              <a:gd name="adj2" fmla="val -379305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lexibiliz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A2B-82DD-4B49-9A56-85A7F7B9C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30592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041-96C8-4BFC-A444-4103FBCC6D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formele initi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pa caderea comunismulu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 cadrul sistemului educational romanesc, au vizat adaptarea educatiei la cerintele in schimbare ale societatii si la cele legate de aderarea la Uniunea Europeana si au inclu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schimbarea curriculumulu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evaluarea elevil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formarea profesoril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finanţar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managemen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l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1FC7-4CAB-4021-8CB8-FF52F9C2B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>
            <a:lum contrast="6000"/>
            <a:alphaModFix amt="70000"/>
          </a:blip>
          <a:stretch/>
        </p:blipFill>
        <p:spPr>
          <a:xfrm>
            <a:off x="685800" y="914400"/>
            <a:ext cx="78487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ubstituent număr diapozitiv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85A-0C95-46B0-894F-3A66A0838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ULUI  DE  INVATAMAN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 DE  FORMARE  PROFESIONALA  INITI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mplementată începând cu anul şcolar 2003/2004, e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prezentată în organigrama alăturat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EAA-3225-4CCD-A6A9-6BD810E95F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04960" y="6324120"/>
            <a:ext cx="19810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EPRIMAR  ( 2-3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505320" y="5867280"/>
            <a:ext cx="198108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IMAR  ( 4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743200" y="5410080"/>
            <a:ext cx="34290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ECUNDAR   INFERIOR-GENERAL  (4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86000" y="4343400"/>
            <a:ext cx="4457880" cy="800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ECUNDAR    INFERIOR  (2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286000" y="4343400"/>
            <a:ext cx="2171880" cy="571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ICLUL INFERIOR AL LICEUL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4572000" y="4343400"/>
            <a:ext cx="2171880" cy="571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COALA  DE ARTE SI  MESER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724280" y="3809880"/>
            <a:ext cx="1981440" cy="31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 DE COMPLET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286000" y="3200400"/>
            <a:ext cx="44197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SECUNDAR   SUPER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CICLUL   SUPERIOR   AL   LICEULU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2-3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867280" y="2209680"/>
            <a:ext cx="1371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POST SECUN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447920" y="762120"/>
            <a:ext cx="331452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TERTI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1523880" y="1828800"/>
            <a:ext cx="312444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SUPERIOR DE  SCURTA  DUR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2-3 an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1523880" y="914400"/>
            <a:ext cx="3124440" cy="800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SUPERIOR DE  LUNGA  DUR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4-6 an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447920" y="152280"/>
            <a:ext cx="3314520" cy="40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POSTUNIVERS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V="1">
            <a:off x="4419720" y="6171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 flipV="1">
            <a:off x="4419720" y="57146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44197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5638680" y="4114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 flipV="1">
            <a:off x="563868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3429000" y="36572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4800600" y="2895120"/>
            <a:ext cx="1676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H="1" flipV="1">
            <a:off x="3123720" y="2895120"/>
            <a:ext cx="1676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3124080" y="5331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467480" y="51814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Arial"/>
              </a:rPr>
              <a:t>EXA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467480" y="28954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Arial"/>
              </a:rPr>
              <a:t>EXA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4419720" y="533412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ubstituent număr diapozitiv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47C-566C-4E29-86FF-AE22F8ED9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3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PREPRIM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nivelul ISCED 0) urmăreşte socializarea copiilor şi dezvoltarea lor din punct de vedere fizic, emoţional şi cognitiv, prin activităţi specif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4720" indent="-2347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cest nivel de învăţământ cuprinde copii între 3 şi 6 ani şi se desfăşoară în instituţii specializate numite </a:t>
            </a:r>
            <a:r>
              <a:rPr b="1" i="1" lang="ro-RO" sz="2000" spc="-1" strike="noStrike">
                <a:solidFill>
                  <a:srgbClr val="9900ff"/>
                </a:solidFill>
                <a:latin typeface="Arial"/>
              </a:rPr>
              <a:t>grădiniţe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ele mai multe fiind publice. Participarea copiilor în grădiniţe este gratuită şi opţională, ultimul an asigurând pregătirea pentru intrarea în învăţământul prim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4720" indent="-2347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G</a:t>
            </a:r>
            <a:r>
              <a:rPr b="1" i="1" lang="ro-RO" sz="2000" spc="-1" strike="noStrike">
                <a:solidFill>
                  <a:srgbClr val="9900ff"/>
                </a:solidFill>
                <a:latin typeface="Arial"/>
              </a:rPr>
              <a:t>rup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ic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-4 a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ijloc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-5 a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are – pregătito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5-6 ani)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</a:t>
            </a:r>
            <a:r>
              <a:rPr b="0" lang="ro-RO" sz="2000" spc="-1" strike="noStrike">
                <a:solidFill>
                  <a:srgbClr val="9900ff"/>
                </a:solidFill>
                <a:latin typeface="Arial"/>
              </a:rPr>
              <a:t>rogram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ul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normal (5 ore/zi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elungit (10 ore/z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ăptămânal (5 zile/săptămân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AE4-4700-49D0-9F4A-274D03DB2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1532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Ş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COLARIZAREA  OBLIGATORI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urează 10 ani şi cuprinde trei 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e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prima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1, cu o durată de 4 ani)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prima fază a învăţământului secundar inferior – genera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2), cu o durată de 4 ani), desfăşurat în gimnazi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doua fază a învăţământului secundar inferi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2), cu o durată de 2 ani), care se poate desfăşura î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o-RO" sz="2000" spc="-1" strike="noStrike">
                <a:solidFill>
                  <a:srgbClr val="e4f600"/>
                </a:solidFill>
                <a:latin typeface="Arial"/>
              </a:rPr>
              <a:t>ciclul inferior al liceulu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învăţământ general sau specializ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o-RO" sz="2000" spc="-1" strike="noStrike">
                <a:solidFill>
                  <a:srgbClr val="e4f600"/>
                </a:solidFill>
                <a:latin typeface="Arial"/>
              </a:rPr>
              <a:t>şcoala de arte şi meseri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învăţământ profesional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165-215B-4F09-8CD8-65F3CCF6F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SECUNDAR  SUPERIO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nivelul ISCED 3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rin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ciclul superior al liceulu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2-3 ani), precedat în cazul absolvenţilor şcolii de arte şi meserii de anul de completa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nul de completare oferă absolvenţilor şcolii de arte şi meserii posibilitatea de a atinge nivelul educaţional necesar continuării studiilor în ciclul superior al liceului şi de a obţine o calificare profesională superioar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iclul superior al liceului oferă cursuri generale şi de specializare, care conduc către continuarea studiilor î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nvăţământul postsecunda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postlicea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- nivelul ISCED 4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nvăţământul superi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5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F57-694E-45B3-9C0C-2FC07269B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TERTI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 nivelul ISCED 5) cuprin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superior de scurtă durată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2-3 ani) asigurat de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colegii 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absolventii primesc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absolv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superior de lungă durat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4-6 ani) desfăşurat î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universităţ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institu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academii</a:t>
            </a: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ventii primesc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ploma de lic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8:04:08Z</dcterms:created>
  <dc:creator>Viorel</dc:creator>
  <dc:description/>
  <dc:language>en-US</dc:language>
  <cp:lastModifiedBy>Carmen</cp:lastModifiedBy>
  <dcterms:modified xsi:type="dcterms:W3CDTF">2011-02-11T14:58:37Z</dcterms:modified>
  <cp:revision>193</cp:revision>
  <dc:subject/>
  <dc:title>Slide 1</dc:title>
</cp:coreProperties>
</file>